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251-E6EE-4081-9C03-A0021031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D89-13E4-465D-831F-7F4C5C74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28F-D2D2-4441-89B6-84856A9F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646-C5E9-4C61-9D33-A7895FD1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7195-FCF4-4439-BC22-461DB8A4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3D37-0EA0-44B6-BB47-4D900145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CE25-BAE7-4995-96B1-A43123E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DE0A-6DEB-4DD9-9069-44595970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0ED1-1629-453C-983C-1FAA205C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FDB7-E720-4FC1-9C12-1236D72B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E5D6-02EE-48D1-B127-A552747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C51-EC21-43E3-85E6-57D2DBDA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0BDB-C051-4447-905C-5F270E8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4D17-EDF8-433F-965E-BF3A18AC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E945-B044-4FFC-9F1A-137C15FA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06C4-9B0A-4C41-A87F-94D274D4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D7A1-AE0C-43A7-8E1A-DDD29DB3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303-7DDC-43BF-BDC6-D1567379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097-9621-4B2A-8C70-FBBD119F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1B1-8F3F-4189-8012-E121B6C0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FC0-907C-48EE-9DF2-EB8FE4A1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7CB-C058-4D22-8E58-148D5958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147-2393-4193-91D0-244FB4D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E95-442D-4AFA-8804-9B22FAF9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F03E-4B79-40CE-92AE-8C812BEC5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94BD-2558-43EB-B568-14D0E955F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h Department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49440" y="3890880"/>
            <a:ext cx="6045120" cy="17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ebra II 1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41600"/>
          <a:ext cx="7772400" cy="730080"/>
        </p:xfrm>
        <a:graphic>
          <a:graphicData uri="http://schemas.openxmlformats.org/drawingml/2006/table">
            <a:tbl>
              <a:tblPr/>
              <a:tblGrid>
                <a:gridCol w="1554480"/>
                <a:gridCol w="1554840"/>
                <a:gridCol w="1553400"/>
                <a:gridCol w="1554840"/>
                <a:gridCol w="155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stu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TextBox 5"/>
          <p:cNvSpPr/>
          <p:nvPr/>
        </p:nvSpPr>
        <p:spPr>
          <a:xfrm>
            <a:off x="533520" y="35053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PROFICIENT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33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NONPROFICIENT:      67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EBRA II 3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641600"/>
          <a:ext cx="7772400" cy="1004760"/>
        </p:xfrm>
        <a:graphic>
          <a:graphicData uri="http://schemas.openxmlformats.org/drawingml/2006/table">
            <a:tbl>
              <a:tblPr/>
              <a:tblGrid>
                <a:gridCol w="1554120"/>
                <a:gridCol w="1555920"/>
                <a:gridCol w="1552320"/>
                <a:gridCol w="1555920"/>
                <a:gridCol w="155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STU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8" name="TextBox 4"/>
          <p:cNvSpPr/>
          <p:nvPr/>
        </p:nvSpPr>
        <p:spPr>
          <a:xfrm>
            <a:off x="533520" y="320040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TAL # OF STUDENTS: 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PROFICIENT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56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NONPROFICIENT:    44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 1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&amp; 3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1:The learner will perform operations with complex numbers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matrices, and polynomi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2: The learner will use relations and functions to solve proble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02: Define and compute with complex numbers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03: Operate with algebraic expressions to solve probl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 1.04: Operate with matrices to model and solve probl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 2.02: Use quadratic functions and inequalities to model and solve problem;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 2.04: Create and use best-fit mathematical models of linear, exponential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and quadratic functions to solve problems involving sets of d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2.08: Use equations and inequalities with absolute value to model and solv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problems;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2.10: Use systems of two or more equations or inequalities to model an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solve problems;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EBRA II HONOR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641600"/>
          <a:ext cx="7772400" cy="1004760"/>
        </p:xfrm>
        <a:graphic>
          <a:graphicData uri="http://schemas.openxmlformats.org/drawingml/2006/table">
            <a:tbl>
              <a:tblPr/>
              <a:tblGrid>
                <a:gridCol w="1554120"/>
                <a:gridCol w="1555920"/>
                <a:gridCol w="1552320"/>
                <a:gridCol w="1555920"/>
                <a:gridCol w="155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STU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533520" y="320040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TAL # OF STUDENTS:  1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PROFICIENT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100%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NONPROFICIENT:     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2: The learner will use relations and functions to solve probl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4: Create and use best-fit mathematical models of linear, exponential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and quadratic functions to solve problems involving sets of d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2.08: Use equations and inequalities with absolute value to model and solv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problems;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2.10: Use systems of two or more equations or inequalities to model an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lve problems;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tal Combined Sc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47920" y="1752480"/>
          <a:ext cx="6095880" cy="1963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all Total # of 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219320" y="426708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% PROFICIENT: 62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% NONPROFICIENT: 37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room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-school Tu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-School Tu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Review – Students are put into groups and go through the test together.  Students are required to write down clues and solve each problem showing all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s after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OC Coach Workbooks (Good Star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21:37:43Z</dcterms:created>
  <dc:creator>Ashley</dc:creator>
  <dc:description/>
  <dc:language>en-US</dc:language>
  <cp:lastModifiedBy>shirley johnson</cp:lastModifiedBy>
  <dcterms:modified xsi:type="dcterms:W3CDTF">2010-02-17T19:31:12Z</dcterms:modified>
  <cp:revision>7</cp:revision>
  <dc:subject/>
  <dc:title>Math Department Date</dc:title>
</cp:coreProperties>
</file>